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3F9A-6B75-4FE5-B1BC-AD84FE00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B19B-FB8B-4893-AB12-965FC433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3A0C-B141-4D21-9363-13643394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803B-671B-4A05-8143-77AC759A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E076-ECF2-4B6E-A4B1-3E9FEF8E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1179-DF9A-4EF0-BF80-19B4D62D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D5F0-C699-41A0-8710-AB0F9B3E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B6E5-A79D-47FC-A1A3-11A4D7D8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1C26-3CD3-428D-8D65-C9FA69DB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035E-6406-4B54-BE3F-FF02102D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8FCD-FB8A-4B7F-A608-5AA006E5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CC95-409D-41F3-90B0-F0469D71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3932-AA81-4F99-BDBB-7D50DF35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476B-CD87-4244-ADF0-AF42D34E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FC00-0FF3-47F0-9EDD-F11C961B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9D01-D47E-47A6-A883-403F37E1C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DC06-059D-4551-9910-3E898F4B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CFD4-BED9-4A21-8BBD-9DD1FBC0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0578-DBEF-43E2-A128-6F6F3C1E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6CB6-AAF9-4954-BC26-E669D588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2630-2647-4DFA-9505-23BBC0DB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EC9C-60CA-4C7F-B615-56EF1506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CAA3-FED5-4BEB-A04C-B2C5D10E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58E9-02DF-42D9-ABE7-78CD20CA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50000">
                  <a:srgbClr val="ff99ff"/>
                </a:gs>
                <a:gs pos="100000">
                  <a:srgbClr val="ff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712D-08CD-471A-8E54-3F8DEF0E91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3"/>
          <p:cNvSpPr/>
          <p:nvPr/>
        </p:nvSpPr>
        <p:spPr>
          <a:xfrm>
            <a:off x="685800" y="2057400"/>
            <a:ext cx="7391520" cy="335268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09480" y="914400"/>
            <a:ext cx="746784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1371600"/>
            <a:ext cx="8991720" cy="1828800"/>
          </a:xfrm>
          <a:custGeom>
            <a:avLst/>
            <a:gdLst>
              <a:gd name="textAreaLeft" fmla="*/ 0 w 8991720"/>
              <a:gd name="textAreaRight" fmla="*/ 4496760 w 8991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4917" h="1000">
                <a:moveTo>
                  <a:pt x="0" y="0"/>
                </a:moveTo>
                <a:lnTo>
                  <a:pt x="4416" y="0"/>
                </a:lnTo>
                <a:cubicBezTo>
                  <a:pt x="4693" y="0"/>
                  <a:pt x="4917" y="223"/>
                  <a:pt x="4917" y="500"/>
                </a:cubicBezTo>
                <a:cubicBezTo>
                  <a:pt x="4917" y="776"/>
                  <a:pt x="4693" y="999"/>
                  <a:pt x="4417" y="1000"/>
                </a:cubicBezTo>
                <a:lnTo>
                  <a:pt x="0" y="10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ff"/>
              </a:gs>
              <a:gs pos="50000">
                <a:srgbClr val="ff99ff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>
            <a:off x="0" y="3048120"/>
            <a:ext cx="83059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5C22-F581-4483-82E4-41FC998504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verbs.wav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"/><Relationship Id="rId3" Type="http://schemas.openxmlformats.org/officeDocument/2006/relationships/slide" Target="slide8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slide8.xml"/><Relationship Id="rId9" Type="http://schemas.openxmlformats.org/officeDocument/2006/relationships/slide" Target=""/><Relationship Id="rId10" Type="http://schemas.openxmlformats.org/officeDocument/2006/relationships/slide" Target="slide8.xml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slide9.xml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slide6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hompchomp.com/terms/linkingverb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66"/>
                </a:solidFill>
                <a:latin typeface="Arial"/>
              </a:rPr>
              <a:t>State of Being Verbs</a:t>
            </a:r>
            <a:endParaRPr b="0" lang="en-US" sz="6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Grade Language Arts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ni-Grammar Unit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2" name="Picture 8" descr="circling"/>
          <p:cNvPicPr/>
          <p:nvPr/>
        </p:nvPicPr>
        <p:blipFill>
          <a:blip r:embed="rId1"/>
          <a:stretch/>
        </p:blipFill>
        <p:spPr>
          <a:xfrm>
            <a:off x="5715000" y="3352680"/>
            <a:ext cx="220968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What is a state of being verb?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tate of being verbs are often called linking verbs because they link the subject of the sentence with information about it. 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5" name="Picture 6" descr="friendship2"/>
          <p:cNvPicPr/>
          <p:nvPr/>
        </p:nvPicPr>
        <p:blipFill>
          <a:blip r:embed="rId1"/>
          <a:stretch/>
        </p:blipFill>
        <p:spPr>
          <a:xfrm>
            <a:off x="3124080" y="4495680"/>
            <a:ext cx="3733920" cy="22813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3352680" y="5653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257800" y="5195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What is a state of being verb?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There are 8 state of being verbs: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s, am, ar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was, were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be being, been.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AutoShape 4">
            <a:hlinkClick r:id="rId1"/>
          </p:cNvPr>
          <p:cNvSpPr/>
          <p:nvPr/>
        </p:nvSpPr>
        <p:spPr>
          <a:xfrm>
            <a:off x="3200400" y="4343400"/>
            <a:ext cx="2514600" cy="1905120"/>
          </a:xfrm>
          <a:custGeom>
            <a:avLst/>
            <a:gdLst>
              <a:gd name="textAreaLeft" fmla="*/ 123480 w 2514600"/>
              <a:gd name="textAreaRight" fmla="*/ 2391120 w 251460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28509" h="21600">
                <a:moveTo>
                  <a:pt x="0" y="0"/>
                </a:moveTo>
                <a:lnTo>
                  <a:pt x="28509" y="0"/>
                </a:lnTo>
                <a:lnTo>
                  <a:pt x="28509" y="21600"/>
                </a:lnTo>
                <a:lnTo>
                  <a:pt x="0" y="21600"/>
                </a:lnTo>
                <a:close/>
              </a:path>
              <a:path fill="lightenLess" w="28509" h="21600">
                <a:moveTo>
                  <a:pt x="0" y="0"/>
                </a:moveTo>
                <a:lnTo>
                  <a:pt x="28509" y="0"/>
                </a:lnTo>
                <a:lnTo>
                  <a:pt x="27109" y="1400"/>
                </a:lnTo>
                <a:lnTo>
                  <a:pt x="1400" y="1400"/>
                </a:lnTo>
                <a:close/>
              </a:path>
              <a:path fill="darken" w="28509" h="21600">
                <a:moveTo>
                  <a:pt x="28509" y="0"/>
                </a:moveTo>
                <a:lnTo>
                  <a:pt x="28509" y="21600"/>
                </a:lnTo>
                <a:lnTo>
                  <a:pt x="27109" y="20200"/>
                </a:lnTo>
                <a:lnTo>
                  <a:pt x="27109" y="1400"/>
                </a:lnTo>
                <a:close/>
              </a:path>
              <a:path fill="darkenLess" w="28509" h="21600">
                <a:moveTo>
                  <a:pt x="285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109" y="20200"/>
                </a:lnTo>
                <a:close/>
              </a:path>
              <a:path fill="lighten" w="285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429000" y="457200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r the 8 state of being verb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ear1"/>
          <p:cNvPicPr/>
          <p:nvPr/>
        </p:nvPicPr>
        <p:blipFill>
          <a:blip r:embed="rId2"/>
          <a:stretch/>
        </p:blipFill>
        <p:spPr>
          <a:xfrm>
            <a:off x="5181480" y="2666880"/>
            <a:ext cx="762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The teacher </a:t>
            </a:r>
            <a:r>
              <a:rPr b="1" lang="en-US" sz="4200" spc="-1" strike="noStrike">
                <a:solidFill>
                  <a:srgbClr val="000066"/>
                </a:solidFill>
                <a:latin typeface="Arial"/>
              </a:rPr>
              <a:t>is</a:t>
            </a: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 tall. 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the first sentence, “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links “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he teacher”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to information about her—the fact that she is tall. That is her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tate of being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5" name="Picture 4" descr="teacher9"/>
          <p:cNvPicPr/>
          <p:nvPr/>
        </p:nvPicPr>
        <p:blipFill>
          <a:blip r:embed="rId1"/>
          <a:stretch/>
        </p:blipFill>
        <p:spPr>
          <a:xfrm>
            <a:off x="3276720" y="3227400"/>
            <a:ext cx="304776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This candy </a:t>
            </a:r>
            <a:r>
              <a:rPr b="1" lang="en-US" sz="4200" spc="-1" strike="noStrike">
                <a:solidFill>
                  <a:srgbClr val="000066"/>
                </a:solidFill>
                <a:latin typeface="Arial"/>
              </a:rPr>
              <a:t>tastes</a:t>
            </a: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 so sweet. 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the second sentence, “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astes”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links “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candy”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to information about it (its sweetness). Did you think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ast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was an action verb?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ll, it is—but only when the subject is doing the tasting. Here, the candy isn't doing any tasting. The candy itself tastes sweet. That is its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tate of being.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8" name="Picture 4" descr="candybar"/>
          <p:cNvPicPr/>
          <p:nvPr/>
        </p:nvPicPr>
        <p:blipFill>
          <a:blip r:embed="rId1"/>
          <a:stretch/>
        </p:blipFill>
        <p:spPr>
          <a:xfrm>
            <a:off x="7391520" y="0"/>
            <a:ext cx="18288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339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Can you tell which are “being” verbs?</a:t>
            </a:r>
            <a:endParaRPr b="0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295280" y="2362320"/>
            <a:ext cx="373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33520" y="17524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6666"/>
                </a:solidFill>
                <a:uFillTx/>
                <a:latin typeface="Arial"/>
                <a:hlinkClick r:id="rId1" action="ppaction://hlinksldjump"/>
              </a:rPr>
              <a:t>we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6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ru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600" spc="-1" strike="noStrike" u="sng">
                <a:solidFill>
                  <a:srgbClr val="996666"/>
                </a:solidFill>
                <a:uFillTx/>
                <a:latin typeface="Arial"/>
                <a:hlinkClick r:id="rId3" action="ppaction://hlinksldjump"/>
              </a:rPr>
              <a:t>will b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 u="sng">
                <a:solidFill>
                  <a:srgbClr val="996666"/>
                </a:solidFill>
                <a:uFillTx/>
                <a:latin typeface="Arial"/>
                <a:hlinkClick r:id="rId4" action="ppaction://hlinksldjump"/>
              </a:rPr>
              <a:t>j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395280" y="28954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6666"/>
                </a:solidFill>
                <a:uFillTx/>
                <a:latin typeface="Arial"/>
                <a:hlinkClick r:id="rId5" action="ppaction://hlinksldjump"/>
              </a:rPr>
              <a:t>sh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 u="sng">
                <a:solidFill>
                  <a:srgbClr val="996666"/>
                </a:solidFill>
                <a:uFillTx/>
                <a:latin typeface="Arial"/>
                <a:hlinkClick r:id="rId6" action="ppaction://hlinksldjump"/>
              </a:rPr>
              <a:t>ski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4000" spc="-1" strike="noStrike" u="sng">
                <a:solidFill>
                  <a:srgbClr val="996666"/>
                </a:solidFill>
                <a:uFillTx/>
                <a:latin typeface="Arial"/>
                <a:hlinkClick r:id="rId7" action="ppaction://hlinksldjump"/>
              </a:rPr>
              <a:t>s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 u="sng">
                <a:solidFill>
                  <a:srgbClr val="996666"/>
                </a:solidFill>
                <a:uFillTx/>
                <a:latin typeface="Arial"/>
                <a:hlinkClick r:id="rId8" action="ppaction://hlinksldjump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609480" y="426708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6666"/>
                </a:solidFill>
                <a:uFillTx/>
                <a:latin typeface="Arial"/>
                <a:hlinkClick r:id="rId9" action="ppaction://hlinksldjump"/>
              </a:rPr>
              <a:t>coul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000" spc="-1" strike="noStrike" u="sng">
                <a:solidFill>
                  <a:srgbClr val="996666"/>
                </a:solidFill>
                <a:uFillTx/>
                <a:latin typeface="Arial"/>
                <a:hlinkClick r:id="rId10" action="ppaction://hlinksldjump"/>
              </a:rPr>
              <a:t>ha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000" spc="-1" strike="noStrike" u="sng">
                <a:solidFill>
                  <a:srgbClr val="996666"/>
                </a:solidFill>
                <a:uFillTx/>
                <a:latin typeface="Arial"/>
                <a:hlinkClick r:id="rId11" action="ppaction://hlinksldjump"/>
              </a:rPr>
              <a:t>driv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000" spc="-1" strike="noStrike" u="sng">
                <a:solidFill>
                  <a:srgbClr val="996666"/>
                </a:solidFill>
                <a:uFillTx/>
                <a:latin typeface="Arial"/>
                <a:hlinkClick r:id="rId12" action="ppaction://hlinksldjump"/>
              </a:rPr>
              <a:t>dr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6" descr="pointr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809880" y="5257800"/>
            <a:ext cx="1629000" cy="990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7"/>
          <p:cNvSpPr/>
          <p:nvPr/>
        </p:nvSpPr>
        <p:spPr>
          <a:xfrm>
            <a:off x="5562720" y="533412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y to move 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5"/>
          <p:cNvSpPr/>
          <p:nvPr/>
        </p:nvSpPr>
        <p:spPr>
          <a:xfrm>
            <a:off x="3886200" y="1447920"/>
            <a:ext cx="4267080" cy="4419360"/>
          </a:xfrm>
          <a:custGeom>
            <a:avLst/>
            <a:gdLst>
              <a:gd name="textAreaLeft" fmla="*/ 276480 w 4267080"/>
              <a:gd name="textAreaRight" fmla="*/ 3990600 w 4267080"/>
              <a:gd name="textAreaTop" fmla="*/ 276480 h 4419360"/>
              <a:gd name="textAreaBottom" fmla="*/ 4142880 h 4419360"/>
            </a:gdLst>
            <a:ahLst/>
            <a:rect l="textAreaLeft" t="textAreaTop" r="textAreaRight" b="textAreaBottom"/>
            <a:pathLst>
              <a:path w="21600" h="22371">
                <a:moveTo>
                  <a:pt x="0" y="0"/>
                </a:moveTo>
                <a:lnTo>
                  <a:pt x="21600" y="0"/>
                </a:lnTo>
                <a:lnTo>
                  <a:pt x="21600" y="22371"/>
                </a:lnTo>
                <a:lnTo>
                  <a:pt x="0" y="22371"/>
                </a:lnTo>
                <a:close/>
              </a:path>
              <a:path fill="lightenLess" w="21600" h="223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1">
                <a:moveTo>
                  <a:pt x="21600" y="0"/>
                </a:moveTo>
                <a:lnTo>
                  <a:pt x="21600" y="22371"/>
                </a:lnTo>
                <a:lnTo>
                  <a:pt x="20200" y="20971"/>
                </a:lnTo>
                <a:lnTo>
                  <a:pt x="20200" y="1400"/>
                </a:lnTo>
                <a:close/>
              </a:path>
              <a:path fill="darkenLess" w="21600" h="22371">
                <a:moveTo>
                  <a:pt x="21600" y="22371"/>
                </a:moveTo>
                <a:lnTo>
                  <a:pt x="0" y="22371"/>
                </a:lnTo>
                <a:lnTo>
                  <a:pt x="1400" y="20971"/>
                </a:lnTo>
                <a:lnTo>
                  <a:pt x="20200" y="20971"/>
                </a:lnTo>
                <a:close/>
              </a:path>
              <a:path fill="lighten" w="21600" h="22371">
                <a:moveTo>
                  <a:pt x="0" y="223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1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OOPS!  That is an action verb.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Try again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9" name="Picture 4" descr="oopsani"/>
          <p:cNvPicPr/>
          <p:nvPr/>
        </p:nvPicPr>
        <p:blipFill>
          <a:blip r:embed="rId1"/>
          <a:stretch/>
        </p:blipFill>
        <p:spPr>
          <a:xfrm>
            <a:off x="4267080" y="1752480"/>
            <a:ext cx="3581640" cy="3668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pointl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85800" y="3048120"/>
            <a:ext cx="259092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5"/>
          <p:cNvSpPr/>
          <p:nvPr/>
        </p:nvSpPr>
        <p:spPr>
          <a:xfrm>
            <a:off x="4191120" y="1447920"/>
            <a:ext cx="4038480" cy="4495680"/>
          </a:xfrm>
          <a:custGeom>
            <a:avLst/>
            <a:gdLst>
              <a:gd name="textAreaLeft" fmla="*/ 261720 w 4038480"/>
              <a:gd name="textAreaRight" fmla="*/ 3776760 w 4038480"/>
              <a:gd name="textAreaTop" fmla="*/ 261720 h 4495680"/>
              <a:gd name="textAreaBottom" fmla="*/ 4233960 h 4495680"/>
            </a:gdLst>
            <a:ahLst/>
            <a:rect l="textAreaLeft" t="textAreaTop" r="textAreaRight" b="textAreaBottom"/>
            <a:pathLst>
              <a:path w="21600" h="24045">
                <a:moveTo>
                  <a:pt x="0" y="0"/>
                </a:moveTo>
                <a:lnTo>
                  <a:pt x="21600" y="0"/>
                </a:lnTo>
                <a:lnTo>
                  <a:pt x="21600" y="24045"/>
                </a:lnTo>
                <a:lnTo>
                  <a:pt x="0" y="24045"/>
                </a:lnTo>
                <a:close/>
              </a:path>
              <a:path fill="lightenLess" w="21600" h="240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45">
                <a:moveTo>
                  <a:pt x="21600" y="0"/>
                </a:moveTo>
                <a:lnTo>
                  <a:pt x="21600" y="24045"/>
                </a:lnTo>
                <a:lnTo>
                  <a:pt x="20200" y="22645"/>
                </a:lnTo>
                <a:lnTo>
                  <a:pt x="20200" y="1400"/>
                </a:lnTo>
                <a:close/>
              </a:path>
              <a:path fill="darkenLess" w="21600" h="24045">
                <a:moveTo>
                  <a:pt x="21600" y="24045"/>
                </a:moveTo>
                <a:lnTo>
                  <a:pt x="0" y="24045"/>
                </a:lnTo>
                <a:lnTo>
                  <a:pt x="1400" y="22645"/>
                </a:lnTo>
                <a:lnTo>
                  <a:pt x="20200" y="22645"/>
                </a:lnTo>
                <a:close/>
              </a:path>
              <a:path fill="lighten" w="21600" h="24045">
                <a:moveTo>
                  <a:pt x="0" y="240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4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Yes!  That is a state of being verb.</a:t>
            </a:r>
            <a:endParaRPr b="0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66"/>
                </a:solidFill>
                <a:latin typeface="Arial"/>
              </a:rPr>
              <a:t>Try </a:t>
            </a:r>
            <a:endParaRPr b="0" lang="en-US" sz="5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Arial"/>
              </a:rPr>
              <a:t>another!</a:t>
            </a:r>
            <a:endParaRPr b="0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4" name="Picture 4" descr="face"/>
          <p:cNvPicPr/>
          <p:nvPr/>
        </p:nvPicPr>
        <p:blipFill>
          <a:blip r:embed="rId1"/>
          <a:stretch/>
        </p:blipFill>
        <p:spPr>
          <a:xfrm>
            <a:off x="4572000" y="1828800"/>
            <a:ext cx="3276720" cy="3809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pointl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120" y="3886200"/>
            <a:ext cx="259056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Online Verb Games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28800" y="1523520"/>
            <a:ext cx="6781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Linking Verb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tate of Being Verb Qui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2Bee or Nottoobee Verb Ga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oing and Being Verb Sentence Se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oing and Being Verb Sentence Sense II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inking Verb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AutoShape 4">
            <a:hlinkClick r:id="rId1"/>
          </p:cNvPr>
          <p:cNvSpPr/>
          <p:nvPr/>
        </p:nvSpPr>
        <p:spPr>
          <a:xfrm>
            <a:off x="1295280" y="1600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295280" y="2209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1295280" y="2819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295280" y="3352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1295280" y="44197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1295280" y="5486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19:53:12Z</dcterms:created>
  <dc:creator>Jefferson County Schools</dc:creator>
  <dc:description/>
  <dc:language>en-US</dc:language>
  <cp:lastModifiedBy> </cp:lastModifiedBy>
  <dcterms:modified xsi:type="dcterms:W3CDTF">2013-03-18T00:11:09Z</dcterms:modified>
  <cp:revision>27</cp:revision>
  <dc:subject/>
  <dc:title>Verbs</dc:title>
</cp:coreProperties>
</file>